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369D-D874-4B5F-9488-E5BBE70A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DFF4-5398-4761-834D-5717C5D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82AF-3144-4FB3-A37D-ED31900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C884-2B12-4194-B7F6-0B183D9B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1C6-3DF6-4F96-986D-DB816F0D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03C-37C3-49BE-B1CE-6C4DB5A5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B46B-FC54-4F41-B3E6-6C4107E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6EDE-8483-4E9D-B55A-9987304C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A43B-B7E6-47F6-9229-BF79CC2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B420-B9D7-448C-AD38-8A94AC7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17F-477E-46E6-A831-057E1D0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3FA0-11AA-448E-815F-1C0A24F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64A1-EBB4-4054-BB62-F94DAF8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74E6-9E7B-40CA-811B-EF2B84A4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311-7C5A-4EDA-ABE4-D4A6750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261B-155B-40E5-887B-9530D720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004D-0730-4F42-9CD1-0E0571A5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9824-D61C-42C7-BD41-0232291E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225E-F6F9-49CD-9D29-A3A54125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9B37-432E-49E7-87C0-45DD0BAE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C208-BB59-4C61-9F7F-E500787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ABB2-269B-41C7-BC53-0FEA3E7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E912-DCD7-4A19-B6A7-E698696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158C-66D8-4F40-A7FB-0A262CA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5CD-3D55-44C7-8D85-87765D9FBA0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0894-D139-4939-BC0D-BF5D1014963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37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приел ли си Исус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веднъж за теб умр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н стои сега и хлоп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ка твоето сър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славен Цар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адост днес ти прием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и живота ве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в Исуса се я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Ти на грижи и весел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ваш място всеки ден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, що умря за т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отблъснеш ли съвсе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славен Цар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адост днес ти прием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и живота ве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в Исуса се я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й живота си Исусу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ж как нежно Той зов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, днес може би после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ов към тебе тоз да 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славен Цар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адост днес ти прием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и живота ве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в Исуса се я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Дай от</a:t>
            </a: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т ти на Ису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отлагай пов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ко Той веднъж отмин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ят плач горчив ще 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славен Цар небе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адост днес ти прием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еми живота веч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в Исуса се я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6-05T09:18:37Z</dcterms:modified>
  <cp:revision>193</cp:revision>
  <dc:subject/>
  <dc:title>Slide 1</dc:title>
</cp:coreProperties>
</file>